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68D-A550-4ECB-8979-23A4E141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692-2CE9-43D4-9C9B-59166C78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916-04E7-487F-9749-180E78D6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8D7-3764-4C41-8DD8-9A15A659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55B0-E69A-4B36-8472-7911BA17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1382-1BE6-4E7D-B7A2-795E5EAC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488-B709-4FDA-878E-03AAFADD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6C97-30F2-4E63-81AE-7CAEF01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17D6-C775-4E65-93CD-B9A41972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47B8-7524-44CC-A6F4-6457C69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59EA-811D-481C-85F4-91BBC60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7E4-1E5B-4F7B-B532-A284632E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63DC-DCE5-4618-81F3-61CB72A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1AAA-5391-46BE-90A0-F96B0FE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3E68-368D-4D9A-8968-8B3D32DE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341E-B909-4A8A-81AC-AA3A2A0A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AA9E-B13D-42F0-A112-F8BCF2C3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DA4-CF4E-4673-B3CD-764CC1A3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94B-DF14-498C-B296-3EFA099B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6D2-3F63-483D-8796-EBC5EC09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83B-866E-46A1-B9D9-455C18F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F2B-0887-4AEE-9BF9-8902B80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03B-6A95-41A5-AA8E-D0AF98B7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F68-E3F9-4921-A41D-669E26F1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369B-AFDD-400F-8248-F927D5335D5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BD7-8BE1-42FE-9F34-F59F0027425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508960" cy="26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s Temelli Cümle Yönteminin Okuma Becerisine Etkis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ğımsız Değişken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598760"/>
            <a:ext cx="778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s Temelli Cümle Yöntem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ğımlı Değişken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kuma Becerisi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a Değişkenler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ne babanın eğitim seviy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ardeş sayıs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ünlük gazete alım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kul dışında öğrenciyle ilgilenilm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üzenleyici Değişkenler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ınıfta uygun materyallerin kullanılmas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Öğrencilerin okumaya güdülenm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Öğretmenin donanım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ınıfın fiziksel özelliklerinin uygunluğ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 Işık, ısı, sınıf mevcudu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6:47:21Z</dcterms:created>
  <dc:creator>PERFECT PC1</dc:creator>
  <dc:description/>
  <dc:language>en-US</dc:language>
  <cp:lastModifiedBy>PERFECT PC1</cp:lastModifiedBy>
  <dcterms:modified xsi:type="dcterms:W3CDTF">2010-10-02T17:42:09Z</dcterms:modified>
  <cp:revision>2</cp:revision>
  <dc:subject/>
  <dc:title>Ses Temelli Cümle Yönteminin Okuma Becerisine Etkisi</dc:title>
</cp:coreProperties>
</file>